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C271-C709-4792-87ED-644D87023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C4EFB-68C9-4617-9A2E-0C2649E19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79CC-C728-4115-B564-F789C205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26EE-019E-4CB5-94D9-97B9FE536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AFAD4-2C91-4869-9DC9-56FCB20AF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565E-F3FC-48CB-87AF-31EA53A3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82F2A-7949-45B7-A4E9-A56774755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B1C44-E17A-450B-9E6E-9EE6A597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B5B4-F71D-4EBE-8F6A-15738F2D3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5309-0A95-4811-B3D9-3961533A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9E7E-0ACB-4547-B780-17211264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27AA-B0E0-4F4B-94F5-8272C578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3A9A-457A-4D84-8460-7F7218D7E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3471-DDD8-464B-983C-700F891BA4CA}" type="datetime">
              <a:rPr b="0" lang="en-US" sz="1000" spc="-1" strike="noStrike">
                <a:solidFill>
                  <a:srgbClr val="000099"/>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B20E-FC10-4086-A229-63DF4F7E2D0B}"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42D8-8240-4A16-A27E-357463489C14}"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1C1A-E8E8-4FE2-AA86-E92602700A7D}"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5FF7-0782-4ADB-A80D-AD6BBEC5E22D}"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1665-C26D-44D3-9F13-32AAA25A5C6D}"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D8DB-2959-4E3F-A579-F0BACCB36670}"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600A-C65E-406C-B8A9-838EE5E13B6F}"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F0D4-D60D-47A4-90C8-A9E3A1018F07}"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2FC3-7A94-4F7E-ACD3-2C144A8B7620}"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A5E9-3022-4F33-AFAB-134D95D0C46D}"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4481-DD0E-4853-B777-27FDCF550F4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EE81-060B-42E5-A331-9019ADBCF641}"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108D-D713-4D98-8941-6F8E60C2B8C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CC6E-9D82-4D52-8B6D-D193CC0AABE8}"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CB89-B4FB-4A26-87B3-BE40CAEBBCDE}"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6AB9-3B6F-4FC3-A139-899517747723}"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DA73-65FE-4128-92C4-E4C611B1A14B}"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